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AF2-321F-4B1E-B7B0-EE36CA7D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712-C8CA-4110-8EB3-F43FD23C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9130-93B9-43E8-8A57-E9F3C524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947-1202-4AB0-B17B-2AAF3816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2C8-CC56-454E-9BE1-7B376DCE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7468-F1A3-4188-BA14-2196980B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DFE5-11DF-4ABB-B3AD-8CF93E36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25AD-DDB1-41FD-9953-BFB7E8D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F91F-22D1-4625-95A3-A8B9A630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8E95-3B28-4BA7-B8C0-4177E494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5E46-89D1-4981-BC98-881A6D8C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C0A-2331-4565-976B-CA9960E1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7DFF-47D8-4715-9FE1-EC7FB6D9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1D32-035E-4AC7-BBF7-389B6EDC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1FD2-9E4B-4C76-B206-59642EF2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DF7E-EB07-4C20-B147-A988EB77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41A1-9E69-40D8-BDEB-BA24FB8D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1A4-F677-4D01-9AC8-075D375C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276-DA73-4C2A-9A5A-A0E47D5C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2D5-E03E-4961-83AE-4DE26F2D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B34-D349-4A29-9D37-5F4D98F9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A322-5B55-4CCA-A15C-F67EF1C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CE8-792F-4EA8-8BB1-9928C66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0260-9052-485E-9FE9-C099DAA7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0B4B-5A78-4602-A95D-D49A87DBE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 rot="20256000">
            <a:off x="7619760" y="5791320"/>
            <a:ext cx="1218960" cy="79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0320" y="990720"/>
            <a:ext cx="13716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1360" y="990720"/>
            <a:ext cx="137160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92400" y="990720"/>
            <a:ext cx="137160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6400" y="988920"/>
            <a:ext cx="137160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3280" y="979560"/>
            <a:ext cx="137160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88080" y="992160"/>
            <a:ext cx="137160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5181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C534-FA6C-4A75-BB8A-36D87450F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ОФИЧЕСКАЯ СТРУКТУРА СО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15400" y="4017600"/>
            <a:ext cx="61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ы в биогеоценозе приспособ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 к другу настолько, что их сооб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ляет системное ц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пищевых цепей, начинающиеся с фотосинтезирующих организмов, носят назван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стбищ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и цепей выеда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ищевых цепей, начинающихся с отмерших остатков растений, трупов и экскрементов животных, относят 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ритным пищевым цепя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пям разложе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лиганы-воробьишки – превосходные вор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зерно лишь подавай – поуменьшат урож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китайцы подсчитали, сколько зерен потер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издали свой декрет – воробьев свести на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били всех подряд, ждут – каков же результ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ачалу, в самом деле, закрома их пополн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том пришла беда – отворяйте вор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посевы, урожай насекомые сож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в таком большом числе прежде не было ниг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азалось, воробьята не едят совсем зерна-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родители с полей тащут мошек и 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ло тут властям понятно – надо птиц вернуть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ишлось им воробьев из чужих вести кр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се с плеча рубить, можно дело загуби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3683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 что же, подведем балан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в стихотво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косистему юный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ливей уви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а система по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 в ней по форме стр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обходимый всем про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дет своей доро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то системе служи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ивет себе, не ту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2600" y="3492720"/>
            <a:ext cx="3592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т на зеленый стебе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ится пестрый мотыл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л нектар со всех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пылил – и в путь г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тут попался – Боже мой!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завтрак птице луг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у нее гнездо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уча птенчиков в гн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уж, конечно, их по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тание траве 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4652640"/>
            <a:ext cx="5219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ая существует связь между числом старых дев, проживающих в Англии, и удоем коров (количеством молока, которое дают коровы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5080" y="1700280"/>
            <a:ext cx="305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ажды англич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метили, что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тет пшеница гуще 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де проживает больше д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тенных старых л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боль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ботятся о кошках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58640" y="1773360"/>
            <a:ext cx="337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умай-ка немнож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от загадка реш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 у ловкого к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шей переловил д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мыши что едят? – З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почку разглядишь н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то наука есть и разум.     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. Х. Левитман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57760" y="5084640"/>
            <a:ext cx="348624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059200"/>
            <a:ext cx="78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остройте пищевые цепи на основе текста решения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0752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 вы думаете, какое значение имеют пищевые сети в природ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§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550px-9_5_22_5" descr="&amp;Scy;&amp;tcy;&amp;rcy;&amp;ucy;&amp;kcy;&amp;tcy;&amp;ucy;&amp;rcy;&amp;acy; &amp;dcy;&amp;vcy;&amp;ucy;&amp;khcy; &amp;tcy;&amp;icy;&amp;pcy;&amp;ocy;&amp;vcy; &amp;scy;&amp;ocy;&amp;ocy;&amp;bcy;&amp;shchcy;&amp;iecy;&amp;scy;&amp;tcy;&amp;vcy;"/>
          <p:cNvPicPr/>
          <p:nvPr/>
        </p:nvPicPr>
        <p:blipFill>
          <a:blip r:embed="rId1"/>
          <a:stretch/>
        </p:blipFill>
        <p:spPr>
          <a:xfrm>
            <a:off x="5292720" y="1413000"/>
            <a:ext cx="3381480" cy="41148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68360" y="2133720"/>
            <a:ext cx="4402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роанализируйте рис. 63 стр. 156 и выявите различия и сходства надземной и водной эко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95640" y="2060640"/>
            <a:ext cx="54007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на уроке было глав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было интерес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вы узнали ново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му вы науч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421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0338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является важным показателем разнообразия условий жизни организмов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76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факторы увеличивают видовое разнообразие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133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свойства сообщества характеризуют разнообразие ви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ОСОБЫ ПИТАНИЯ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19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19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с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9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ем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9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708280"/>
            <a:ext cx="1513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лор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637000"/>
            <a:ext cx="15127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трифици-р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3141720"/>
            <a:ext cx="15127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вглена 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с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1916280"/>
            <a:ext cx="18000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62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8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аво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2492280"/>
            <a:ext cx="1513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365720"/>
            <a:ext cx="187164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уберкулез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ут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229360"/>
            <a:ext cx="1513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373720"/>
            <a:ext cx="151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27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62864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4149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156360" y="1628640"/>
            <a:ext cx="720720" cy="273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013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000" y="1628640"/>
            <a:ext cx="1655640" cy="302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5157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466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435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, что означает стрелка между редуцентами и продуц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ли энергия передаваться по замкнутому к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произойдёт, если Солнце перестанет существ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114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ая цеп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это последовательность организмов, в которой каждый из них съедает или разлагает дру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ждое звено пищевой цепи называют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офическим уровн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1008000" cy="7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4797360"/>
            <a:ext cx="122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4797360"/>
            <a:ext cx="1225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я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к розового ку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ожья коров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комоядная пт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ищная п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960" y="465192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то объединяет эти цеп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овая подстил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ждевой черв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черный дроз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стреб-перепел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твое животно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личинки падальных му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равяная лягуш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быкновенный у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скременты животных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ки-навозни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т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83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ем они принципиально отличаются от цепей первой группы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632720" cy="5340240"/>
          </a:xfrm>
          <a:prstGeom prst="rect">
            <a:avLst/>
          </a:prstGeom>
          <a:ln w="6480">
            <a:solidFill>
              <a:srgbClr val="c0c0c0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4:27:13Z</dcterms:created>
  <dc:creator>Admin</dc:creator>
  <dc:description/>
  <dc:language>en-US</dc:language>
  <cp:lastModifiedBy>Admin</cp:lastModifiedBy>
  <dcterms:modified xsi:type="dcterms:W3CDTF">2013-03-16T03:43:27Z</dcterms:modified>
  <cp:revision>49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